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1.png" ContentType="image/png"/>
  <Override PartName="/ppt/media/image27.gif" ContentType="image/gif"/>
  <Override PartName="/ppt/media/image22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png" ContentType="image/png"/>
  <Override PartName="/ppt/media/image16.gif" ContentType="image/gif"/>
  <Override PartName="/ppt/media/image9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6971-719C-4A74-9A43-9888449E4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F11B-D721-4AC2-BCA7-A2BA92824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5AB0-A5A9-4990-A8F8-4057020B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8895-6098-4BC3-941B-36C6EFDE3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36F5-17DB-4DF4-B7D0-DD071C6C9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117B-60A3-477D-AA30-5C78591D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3BE5-C1F8-4F1B-AC7E-FB0FDE1B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28A1-51E1-4F35-A4A8-8E49B3D4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102-E027-49D7-8915-6AA8D32D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CB89-F212-471B-9AED-A5450343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5C41-2396-4B36-8BD3-1F84AEE6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5F3F-E9FC-4408-B7FD-B6087891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E5EC-8F21-449B-9184-8BD08E2CE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Урок русского языка в 3 «А» классе по УМК «Планета знаний»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Тема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«Слова с непроверяемыми гласными  в корне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Times New Roman"/>
              </a:rPr>
              <a:t>Экскурс в этимологию слов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95480" y="5105520"/>
            <a:ext cx="37339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ОУ СОШ № 21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Глухова О.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6858000" cy="4902120"/>
          </a:xfrm>
          <a:prstGeom prst="rect">
            <a:avLst/>
          </a:prstGeom>
          <a:ln w="9360">
            <a:solidFill>
              <a:srgbClr val="f8faa4"/>
            </a:solidFill>
            <a:miter/>
          </a:ln>
        </p:spPr>
      </p:pic>
      <p:sp>
        <p:nvSpPr>
          <p:cNvPr id="70" name=""/>
          <p:cNvSpPr/>
          <p:nvPr/>
        </p:nvSpPr>
        <p:spPr>
          <a:xfrm>
            <a:off x="2286000" y="5715000"/>
            <a:ext cx="4876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Times New Roman"/>
              </a:rPr>
              <a:t>коло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ко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3810240" cy="5562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952880" y="685800"/>
            <a:ext cx="3657600" cy="37339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73" name=""/>
          <p:cNvSpPr/>
          <p:nvPr/>
        </p:nvSpPr>
        <p:spPr>
          <a:xfrm>
            <a:off x="5257800" y="487692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Times New Roman"/>
              </a:rPr>
              <a:t>кол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ьчуг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3809880" cy="33526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75" name=""/>
          <p:cNvSpPr/>
          <p:nvPr/>
        </p:nvSpPr>
        <p:spPr>
          <a:xfrm>
            <a:off x="1066680" y="45720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колес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4120" y="5638680"/>
            <a:ext cx="223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Times New Roman"/>
              </a:rPr>
              <a:t>коло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д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800600" y="762120"/>
            <a:ext cx="3733920" cy="48006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505320" cy="4419720"/>
          </a:xfrm>
          <a:prstGeom prst="rect">
            <a:avLst/>
          </a:prstGeom>
          <a:ln w="9360">
            <a:solidFill>
              <a:srgbClr val="f8faa4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2133720" y="5638680"/>
            <a:ext cx="4800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Times New Roman"/>
              </a:rPr>
              <a:t>коло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воро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1066680"/>
            <a:ext cx="4267080" cy="4419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905120" y="5410080"/>
            <a:ext cx="533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333399"/>
                </a:solidFill>
                <a:uFillTx/>
                <a:latin typeface="Times New Roman"/>
              </a:rPr>
              <a:t>коло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809880" y="1447920"/>
            <a:ext cx="4953240" cy="3581280"/>
          </a:xfrm>
          <a:prstGeom prst="rect">
            <a:avLst/>
          </a:prstGeom>
          <a:ln w="9360">
            <a:solidFill>
              <a:srgbClr val="f8faa4"/>
            </a:solidFill>
            <a:miter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57200" y="533520"/>
            <a:ext cx="3048120" cy="35812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86000" y="1523880"/>
            <a:ext cx="4572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</a:rPr>
              <a:t>Физминут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Times New Roman"/>
              </a:rPr>
              <a:t>« Колобок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ubPieSlice"/>
          <p:cNvSpPr/>
          <p:nvPr/>
        </p:nvSpPr>
        <p:spPr>
          <a:xfrm>
            <a:off x="2057400" y="838080"/>
            <a:ext cx="5487840" cy="5181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599" y="10656"/>
                </a:moveTo>
                <a:arcTo wR="10800" hR="10800" stAng="-45721" swAng="-21554279"/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005e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19720" y="3124080"/>
            <a:ext cx="72072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057400" y="3429000"/>
            <a:ext cx="5477040" cy="76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00200" y="762120"/>
            <a:ext cx="6324480" cy="53337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55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267 -0.03191 C 0.346 -0.28931 0.17222 -0.48335 -0.02691 -0.45953 C -0.21771 -0.43871 -0.37639 -0.23473 -0.36042 0.01688 C -0.34809 0.25 -0.20104 0.43872 -0.02257 0.41952 C 0.14097 0.40079 0.27968 0.22711 0.2684 0.00971 C 0.25729 -0.18802 0.13298 -0.3506 -0.01927 -0.33603 C -0.15868 -0.31984 -0.275 -0.17599 -0.26424 0.00717 C -0.25608 0.17137 -0.15538 0.30921 -0.0316 0.29232 C 0.08246 0.28099 0.17934 0.17045 0.17274 0.02105 C 0.16389 -0.10985 0.08628 -0.22317 -0.01198 -0.21022 C -0.09757 -0.20282 -0.17587 -0.11702 -0.16962 -0.003 C -0.16459 0.09228 -0.10973 0.17507 -0.03785 0.16929 C 0.02135 0.16397 0.07916 0.10939 0.07343 0.0333 C 0.07205 -0.02937 0.03854 -0.09066 -0.00417 -0.0895 C -0.03941 -0.08256 -0.0724 -0.06036 -0.07448 -0.01572 C -0.07379 0.01342 -0.06372 0.0377 -0.04601 0.0444 C -0.03525 0.04764 -0.03125 0.04464 -0.02223 0.04117 E">
                                      <p:cBhvr>
                                        <p:cTn id="164" dur="5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2819520"/>
            <a:ext cx="2057400" cy="19047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78035E-007 C -0.00034 -0.13064 0.08004 -0.23977 0.17743 -0.23977 C 0.29236 -0.23977 0.33386 -0.11907 0.35105 -0.04717 L 0.3691 0.04786 C 0.38698 0.11931 0.43125 0.23815 0.56077 0.23815 C 0.64375 0.23815 0.73716 0.13133 0.73716 -5.78035E-007 C 0.73716 -0.13064 0.64375 -0.23977 0.56077 -0.23977 C 0.43125 -0.23977 0.38698 -0.11907 0.3691 -0.04717 L 0.35105 0.04786 C 0.33386 0.11954 0.29236 0.23815 0.17743 0.23815 C 0.08004 0.23815 -0.00034 0.13133 -3.33333E-006 -5.78035E-007 Z">
                                      <p:cBhvr>
                                        <p:cTn id="174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352680" y="2590920"/>
            <a:ext cx="2514600" cy="2361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35" repeatCount="10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010280" y="4800600"/>
            <a:ext cx="1711440" cy="1527120"/>
          </a:xfrm>
          <a:prstGeom prst="ellipse">
            <a:avLst/>
          </a:prstGeom>
          <a:solidFill>
            <a:srgbClr val="ffff00">
              <a:alpha val="73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2.10916E-006 L -0.78264 -0.784 E">
                                      <p:cBhvr>
                                        <p:cTn id="18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-0.784 L -0.78264 0.0481 E">
                                      <p:cBhvr>
                                        <p:cTn id="189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 L 0.06563 -0.80157 E">
                                      <p:cBhvr>
                                        <p:cTn id="192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563 -0.80162 L 0.06563 -0.0132 E">
                                      <p:cBhvr>
                                        <p:cTn id="19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5 L -0.0592 0.03935 E">
                                      <p:cBhvr>
                                        <p:cTn id="200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8264 0.04815 L 0.04809 -0.7669 E">
                                      <p:cBhvr>
                                        <p:cTn id="204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03 -0.77523 L -0.78264 -0.78403 E">
                                      <p:cBhvr>
                                        <p:cTn id="208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Прямоугольник 14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5297400" cy="132264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16" descr=""/>
          <p:cNvPicPr/>
          <p:nvPr/>
        </p:nvPicPr>
        <p:blipFill>
          <a:blip r:embed="rId2"/>
          <a:stretch/>
        </p:blipFill>
        <p:spPr>
          <a:xfrm>
            <a:off x="2438280" y="3124080"/>
            <a:ext cx="5029200" cy="1322640"/>
          </a:xfrm>
          <a:prstGeom prst="rect">
            <a:avLst/>
          </a:prstGeom>
          <a:ln w="0">
            <a:noFill/>
          </a:ln>
        </p:spPr>
      </p:pic>
      <p:pic>
        <p:nvPicPr>
          <p:cNvPr id="46" name="Прямоугольник 19" descr=""/>
          <p:cNvPicPr/>
          <p:nvPr/>
        </p:nvPicPr>
        <p:blipFill>
          <a:blip r:embed="rId3"/>
          <a:stretch/>
        </p:blipFill>
        <p:spPr>
          <a:xfrm>
            <a:off x="2895480" y="4876920"/>
            <a:ext cx="5470560" cy="1322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828800" y="380880"/>
            <a:ext cx="609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Настрое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1866960" y="963720"/>
            <a:ext cx="4967280" cy="4966920"/>
            <a:chOff x="1866960" y="963720"/>
            <a:chExt cx="4967280" cy="4966920"/>
          </a:xfrm>
        </p:grpSpPr>
        <p:sp>
          <p:nvSpPr>
            <p:cNvPr id="93" name=""/>
            <p:cNvSpPr/>
            <p:nvPr/>
          </p:nvSpPr>
          <p:spPr>
            <a:xfrm rot="16200000">
              <a:off x="514296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66ff33"/>
                </a:gs>
              </a:gsLst>
              <a:lin ang="10800000"/>
            </a:gra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6200000">
              <a:off x="2550600" y="2295720"/>
              <a:ext cx="1007640" cy="2374920"/>
            </a:xfrm>
            <a:prstGeom prst="ellipse">
              <a:avLst/>
            </a:prstGeom>
            <a:gradFill rotWithShape="0">
              <a:gsLst>
                <a:gs pos="0">
                  <a:srgbClr val="66ff33"/>
                </a:gs>
                <a:gs pos="100000">
                  <a:srgbClr val="fefefe"/>
                </a:gs>
              </a:gsLst>
              <a:lin ang="10800000"/>
            </a:gra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82960" y="355608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4bfb53"/>
                </a:gs>
              </a:gsLst>
              <a:lin ang="5400000"/>
            </a:gra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82960" y="963720"/>
              <a:ext cx="1008000" cy="2374560"/>
            </a:xfrm>
            <a:prstGeom prst="ellipse">
              <a:avLst/>
            </a:prstGeom>
            <a:gradFill rotWithShape="0">
              <a:gsLst>
                <a:gs pos="0">
                  <a:srgbClr val="4bfb53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54600" y="3051000"/>
              <a:ext cx="865080" cy="86508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282920" y="836640"/>
            <a:ext cx="287640" cy="287280"/>
          </a:xfrm>
          <a:prstGeom prst="ellipse">
            <a:avLst/>
          </a:prstGeom>
          <a:solidFill>
            <a:srgbClr val="0000cc"/>
          </a:solidFill>
          <a:ln cap="rnd" w="57240">
            <a:solidFill>
              <a:srgbClr val="cc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828800" y="762120"/>
            <a:ext cx="5257800" cy="54100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15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5.18519E-006 C 0.00416 -0.00092 0.01232 -0.00208 0.01666 0.00186 C 0.021 0.00579 0.02135 0.01297 0.02638 0.02408 C 0.03142 0.03519 0.04235 0.05001 0.04722 0.06853 C 0.05208 0.08704 0.05416 0.11089 0.05555 0.13519 C 0.05694 0.1595 0.05711 0.19144 0.05555 0.21482 C 0.05399 0.23797 0.05017 0.25834 0.04583 0.27593 C 0.04149 0.29353 0.0276 0.31413 0.02916 0.32038 C 0.03072 0.3264 0.04322 0.31644 0.05555 0.31297 C 0.06788 0.30927 0.08541 0.30255 0.10277 0.29978 C 0.12013 0.29746 0.14235 0.29723 0.15972 0.29792 C 0.17708 0.29908 0.19322 0.30093 0.20694 0.30533 C 0.22065 0.31019 0.23107 0.31853 0.24166 0.32593 C 0.25225 0.33334 0.26683 0.33982 0.27083 0.34978 C 0.27482 0.35973 0.271 0.37408 0.26527 0.38519 C 0.25954 0.3963 0.24722 0.40857 0.2361 0.41667 C 0.22499 0.42478 0.21406 0.42871 0.1986 0.43334 C 0.18315 0.43797 0.16024 0.44422 0.14305 0.44445 C 0.12586 0.44468 0.11128 0.43866 0.09583 0.43519 C 0.08038 0.43172 0.05954 0.42686 0.04999 0.42408 C 0.04044 0.4213 0.03906 0.41459 0.03888 0.41853 C 0.03871 0.42246 0.04531 0.43218 0.0486 0.44816 C 0.0519 0.46413 0.05711 0.49561 0.05833 0.51482 C 0.05954 0.53404 0.05572 0.54723 0.05555 0.56274 C 0.05538 0.57825 0.05885 0.58913 0.05694 0.60741 C 0.05503 0.62547 0.04999 0.65487 0.04444 0.672 C 0.03888 0.68959 0.02933 0.70232 0.0236 0.71112 C 0.01788 0.71968 0.01614 0.72292 0.00972 0.72408 C 0.00329 0.72501 -0.00747 0.72501 -0.01528 0.71829 C -0.0231 0.71181 -0.03126 0.70024 -0.03751 0.68311 C -0.04376 0.66644 -0.04983 0.63612 -0.05278 0.61644 C -0.05574 0.597 -0.05539 0.58195 -0.05556 0.56482 C -0.05574 0.54723 -0.05608 0.53033 -0.05417 0.51274 C -0.05226 0.49561 -0.04844 0.47663 -0.04445 0.46112 C -0.04046 0.44561 -0.03247 0.42894 -0.03056 0.42038 C -0.02865 0.41181 -0.03108 0.4095 -0.03334 0.40927 C -0.0356 0.40904 -0.03403 0.41297 -0.04445 0.41853 C -0.05487 0.42408 -0.07726 0.43866 -0.09584 0.4426 C -0.11442 0.44654 -0.13942 0.44353 -0.15556 0.4426 C -0.17171 0.44167 -0.17969 0.44052 -0.19306 0.43704 C -0.20643 0.43357 -0.22553 0.42802 -0.23612 0.42223 C -0.24671 0.41644 -0.25087 0.40927 -0.25695 0.40186 C -0.26303 0.39445 -0.27101 0.3882 -0.27223 0.37779 C -0.27344 0.36737 -0.27153 0.34931 -0.2639 0.33866 C -0.25626 0.32825 -0.2389 0.32084 -0.2264 0.31482 C -0.2139 0.30857 -0.20018 0.30441 -0.1889 0.30163 C -0.17761 0.29931 -0.17084 0.30001 -0.15834 0.29978 C -0.14584 0.29954 -0.12553 0.29954 -0.1139 0.29978 C -0.10226 0.30001 -0.09844 0.29908 -0.0889 0.30163 C -0.07935 0.30464 -0.06615 0.31204 -0.05695 0.31667 C -0.04775 0.32107 -0.03664 0.33218 -0.03334 0.32964 C -0.03004 0.32686 -0.03421 0.31899 -0.03751 0.30163 C -0.04081 0.28427 -0.05001 0.24538 -0.05278 0.22593 C -0.05556 0.20626 -0.05417 0.19885 -0.05417 0.18334 C -0.05417 0.16783 -0.05365 0.14885 -0.05278 0.13334 C -0.05192 0.11783 -0.05087 0.10348 -0.04862 0.09075 C -0.04636 0.07802 -0.04237 0.06691 -0.0389 0.05741 C -0.03542 0.04792 -0.03178 0.04052 -0.02778 0.03334 C -0.02379 0.02616 -0.01858 0.01922 -0.01528 0.01482 C -0.01199 0.01042 -0.01112 0.00996 -0.00834 0.00741 C -0.00556 0.00487 -0.00417 0.00093 -6.66667E-006 5.18519E-006 Z">
                                      <p:cBhvr>
                                        <p:cTn id="217" dur="5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029200" y="685800"/>
            <a:ext cx="3505320" cy="5715000"/>
          </a:xfrm>
          <a:prstGeom prst="rect">
            <a:avLst/>
          </a:prstGeom>
          <a:ln w="9360">
            <a:solidFill>
              <a:srgbClr val="f8faa4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762120" y="533412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к</a:t>
            </a:r>
            <a:r>
              <a:rPr b="1" lang="en-US" sz="4400" spc="-1" strike="noStrike" u="sng">
                <a:solidFill>
                  <a:srgbClr val="333399"/>
                </a:solidFill>
                <a:uFillTx/>
                <a:latin typeface="Times New Roman"/>
              </a:rPr>
              <a:t>оло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кольч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3276720" cy="3962160"/>
          </a:xfrm>
          <a:prstGeom prst="rect">
            <a:avLst/>
          </a:prstGeom>
          <a:ln w="9360">
            <a:solidFill>
              <a:srgbClr val="3366ff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304920" y="228600"/>
            <a:ext cx="411480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пражнение 1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Многозначность с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53352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Запишите загадку и отгадку, подчеркните орф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2133720"/>
            <a:ext cx="73152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Эх, звоночки, синий цв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С язычком, а звону не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(Колокольчики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3047760" cy="2667240"/>
          </a:xfrm>
          <a:prstGeom prst="rect">
            <a:avLst/>
          </a:prstGeom>
          <a:ln w="9360">
            <a:solidFill>
              <a:srgbClr val="f8faa4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1219320" y="556272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бубен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724280" y="685800"/>
            <a:ext cx="2133720" cy="5334120"/>
          </a:xfrm>
          <a:prstGeom prst="rect">
            <a:avLst/>
          </a:prstGeom>
          <a:ln w="9360">
            <a:solidFill>
              <a:srgbClr val="cc99ff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6858000" y="4191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ботал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45720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8088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пражнение 20. 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Разновидности колок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81080" y="685800"/>
            <a:ext cx="5029200" cy="4419720"/>
          </a:xfrm>
          <a:prstGeom prst="rect">
            <a:avLst/>
          </a:prstGeom>
          <a:ln w="9360">
            <a:solidFill>
              <a:srgbClr val="99ccff"/>
            </a:solidFill>
            <a:miter/>
          </a:ln>
        </p:spPr>
      </p:pic>
      <p:sp>
        <p:nvSpPr>
          <p:cNvPr id="113" name=""/>
          <p:cNvSpPr/>
          <p:nvPr/>
        </p:nvSpPr>
        <p:spPr>
          <a:xfrm>
            <a:off x="2362320" y="525780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рын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066680" y="57913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Колокола  церковной  звон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762120" y="762120"/>
            <a:ext cx="7238880" cy="51051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4495680" cy="579096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380880" y="4724280"/>
            <a:ext cx="33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Царь -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к</a:t>
            </a:r>
            <a:r>
              <a:rPr b="1" lang="en-US" sz="4800" spc="-1" strike="noStrike" u="sng">
                <a:solidFill>
                  <a:srgbClr val="333399"/>
                </a:solidFill>
                <a:uFillTx/>
                <a:latin typeface="Times New Roman"/>
              </a:rPr>
              <a:t>оло</a:t>
            </a:r>
            <a:r>
              <a:rPr b="1" lang="en-US" sz="4800" spc="-1" strike="noStrike">
                <a:solidFill>
                  <a:srgbClr val="333399"/>
                </a:solidFill>
                <a:latin typeface="Times New Roman"/>
              </a:rPr>
              <a:t>ко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17880" y="4075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62120" y="533520"/>
            <a:ext cx="7619760" cy="5867280"/>
          </a:xfrm>
          <a:prstGeom prst="rect">
            <a:avLst/>
          </a:prstGeom>
          <a:ln w="9360">
            <a:solidFill>
              <a:srgbClr val="333399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0666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2" dur="230344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905120" y="9144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</a:rPr>
              <a:t>Домашнее задани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пражнение 2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3"/>
          <p:cNvSpPr/>
          <p:nvPr/>
        </p:nvSpPr>
        <p:spPr>
          <a:xfrm>
            <a:off x="1219320" y="22860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Times New Roman"/>
              </a:rPr>
              <a:t>Сегодня я узнал(а)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1295280" y="3276720"/>
            <a:ext cx="431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Times New Roman"/>
              </a:rPr>
              <a:t>Было интересн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1371600" y="41148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Times New Roman"/>
              </a:rPr>
              <a:t>Было трудн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304920"/>
            <a:ext cx="5410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Times New Roman"/>
              </a:rPr>
              <a:t>Меня удивило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1219320" y="1371600"/>
            <a:ext cx="498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Times New Roman"/>
              </a:rPr>
              <a:t>У меня получилось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51814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cc"/>
                </a:solidFill>
                <a:latin typeface="Times New Roman"/>
              </a:rPr>
              <a:t>Мне захотелось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270160" y="4075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05120" y="380880"/>
            <a:ext cx="5562360" cy="51595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86000" y="5410080"/>
            <a:ext cx="518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Молодцы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000"/>
                            </p:stCondLst>
                            <p:childTnLst>
                              <p:par>
                                <p:cTn id="3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400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Times New Roman"/>
              </a:rPr>
              <a:t>Чистопис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Times New Roman"/>
              </a:rPr>
              <a:t>оро//ра  оло//ла  ере//р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514600" y="685800"/>
            <a:ext cx="4343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МОУ СОШ № 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Глухова О.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2012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304920"/>
            <a:ext cx="8305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Загад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Сама пёстрая , ест зелёное, даёт бело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895480" y="2057400"/>
            <a:ext cx="5867640" cy="419112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533520" y="25146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р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35053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тр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419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л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о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к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90720" y="2133720"/>
            <a:ext cx="8153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 коровы молоко на язык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орова черна , да молоко у неё бе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Как корова языком слиза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76520" y="5335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Times New Roman"/>
              </a:rPr>
              <a:t>Народные изре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133720" y="1371600"/>
            <a:ext cx="27432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оро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оро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ткий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оло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 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оло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а –об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оло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чка  –д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ер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ня –с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ер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ина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808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Подбери слова с чередования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851440" y="1560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175280" y="194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1371600"/>
            <a:ext cx="350496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р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р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т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л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л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об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л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р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р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ний, с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ре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09680" y="1295280"/>
            <a:ext cx="5181840" cy="4572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30492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Упражнение 1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2514600"/>
            <a:ext cx="419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333399"/>
                </a:solidFill>
                <a:latin typeface="Times New Roman"/>
              </a:rPr>
              <a:t>- </a:t>
            </a:r>
            <a:r>
              <a:rPr b="1" lang="en-US" sz="8800" spc="-1" strike="noStrike" u="sng">
                <a:solidFill>
                  <a:srgbClr val="333399"/>
                </a:solidFill>
                <a:uFillTx/>
                <a:latin typeface="Times New Roman"/>
              </a:rPr>
              <a:t>коло</a:t>
            </a:r>
            <a:r>
              <a:rPr b="1" lang="en-US" sz="8800" spc="-1" strike="noStrike">
                <a:solidFill>
                  <a:srgbClr val="333399"/>
                </a:solidFill>
                <a:latin typeface="Times New Roman"/>
              </a:rPr>
              <a:t> -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133720" y="533520"/>
            <a:ext cx="5105160" cy="5029200"/>
          </a:xfrm>
          <a:prstGeom prst="rect">
            <a:avLst/>
          </a:prstGeom>
          <a:ln w="9360">
            <a:solidFill>
              <a:srgbClr val="6600cc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743200" y="56386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1" lang="en-US" sz="4000" spc="-1" strike="noStrike" u="sng">
                <a:solidFill>
                  <a:srgbClr val="333399"/>
                </a:solidFill>
                <a:uFillTx/>
                <a:latin typeface="Times New Roman"/>
              </a:rPr>
              <a:t>оло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льч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66"/>
            </a:gs>
            <a:gs pos="100000">
              <a:srgbClr val="f8e8a6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71600" y="914400"/>
            <a:ext cx="3962520" cy="3276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68" name=""/>
          <p:cNvSpPr/>
          <p:nvPr/>
        </p:nvSpPr>
        <p:spPr>
          <a:xfrm>
            <a:off x="1905120" y="4343400"/>
            <a:ext cx="297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3399"/>
                </a:solidFill>
                <a:uFillTx/>
                <a:latin typeface="Times New Roman"/>
              </a:rPr>
              <a:t>коло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б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*</cp:lastModifiedBy>
  <dcterms:modified xsi:type="dcterms:W3CDTF">2013-01-05T11:23:27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